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3CCB70-15B0-4D89-B322-925909736A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ance = 100 m, time = 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=d/t  s=100m/20s  s=5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361696-F5A6-429E-A15D-BB88CD6F6F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50AC42-EAEE-489F-886D-5FEF851F02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constant mean? Think about driving- slowing down, stopping at lights, etc. Running- slowing down, taking a break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85AEC9-9D24-42FA-80EA-4654A9854C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C723CD-2F8F-4FCB-BDBF-3274110639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class observe me as I carry a ball, then toss a ball in the air, and then doing both at the same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the class if they have ever noticed that they feel like they’re moving when they’re sitting at a traffic light. Explain sitting on a train/plane and relative motion compared to the outside of the train/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88DFC6-4554-44AB-BF39-90FD3228AB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person jumps over an object, both his horizontal and vertical positions ch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ersona in an airplane will think of his or her seat not moving, but an observer on the ground will think the seats are moving with the air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0ADE9B-684B-472F-82A2-5B79960DDA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fore defining speed, explain that speed is a RATE. A rate is something that changes in comparison to something else. Ask the class what else is an example of a rate. (Heart rate, fuel efficiency of cars (mpg), etc) Then tell them to go back to first slide. Is a rate a vector or scalar? (VECTOR- size and dire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4C3ED5-051A-4506-8B22-DF2EEFA115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EE92-1EF6-4FFA-BCF6-7E1203683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E2E2-4B6B-4E1D-88C0-8B887413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AB92-12ED-44FA-B12D-AADBAA63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1C0B-824B-4717-A0E4-B7110415F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E720-8223-4124-BC9F-99DCA7661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536E-7BB4-4382-9A6E-1C40A734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D573-EDC0-4263-B527-E5FA0C25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92E6-736E-4189-944B-99E65E20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416B-7CFF-4CCC-8192-242412A4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5F65-CF14-487B-A713-3605C676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371A-ED31-4B07-9FDA-A88787C7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7B99-A4BB-41E7-A7BD-8D79E31E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00E8-B972-453C-9B99-CD0567B0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6235-E00C-48A5-9B98-E0C6477A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905C-2E57-438E-BB85-B8220A3F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BD7D-8325-4349-B682-0C7053BCA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6586-040F-46F0-B880-2B921B46F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01C87-0C19-430C-B808-63F451ABB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A1D34-12BE-4E5C-9109-D87BEEB9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B8BE7-C6C3-4461-93C9-152BB733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10465-D0D6-4116-A70C-DFA48516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D47CE-7488-4DC1-85EB-B71365D1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D76D-E559-4A74-A3D9-8439483A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86D01-D31D-423D-9E76-766D75B1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09D3E-F157-428E-BAA3-A99834D3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2335A-6151-4728-8488-58B3AF2B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B9153-391C-4336-934B-988C60BE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B01A7-97D4-4DE0-BA92-3C63943F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067DF-1A4A-4E05-A5E3-4D7B48252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59B12-8D94-41F2-B3F2-A96FEEA8D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C4B2A-72AB-4F9D-BE8F-54FC97DEF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BF703-D2F9-4AA8-93B5-1CEF1F8B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FA9A7-E6B1-4C59-89D4-228D1BDB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5F67-4FDD-4B2A-9085-49FAD802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4EBE5-67F2-4C6D-9E74-1BA88A1E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F6542-BAE3-4847-A98F-C9B5AF3D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8545A-6535-448F-853B-C934B185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0D597-996A-412B-8819-FED2F946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1B740-8FA2-449E-8BBD-92F866A1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7E255-9074-41CE-B2F1-C168E73F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B90AD-321D-4F01-94E2-94F243E8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87F40-8912-498B-AA2E-3A582CFFF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48CD5-2508-4BBE-BF18-1B7427FA9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8CE7-E9C6-4775-882D-24090FF4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B7AB-59E2-4A89-A1C0-79724CAE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E8C3-DBE2-4889-BFE8-0C31AE5F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F5C3-4509-4891-8D4A-9F12C54F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6F1E-6E3A-4527-A273-BB0C4B1B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64F781-2E8C-4998-822D-8A60A4B3913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D106EB-CDDA-4D5C-B0A5-5A3309C70C0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6F4B7F-12CB-43B0-AD9A-A95BFE2A1F7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66DA58-55E6-4B8A-A2FC-BC9D12A7C73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933480" y="1011240"/>
            <a:ext cx="823428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8752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SPEED: SAMPLE PROBLEM</a:t>
            </a: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14360" y="1276200"/>
            <a:ext cx="802152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racer completes a 100-meter course in 20 seconds. What is his spee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ust like in math, we are going to use KQ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do we know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do you want to know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w, write the formula, then substitute the values yo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now into the formula. Calculate and simplify, an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n’t forget your units of measu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4452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Calibri"/>
              </a:rPr>
              <a:t>SPEED: Practice Problem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44520" y="1725480"/>
            <a:ext cx="7988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A man runs 200 m in 25 s. What is his speed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f you travel 100 m in 50 s, what is your speed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82280" y="132840"/>
            <a:ext cx="48308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Calibri"/>
              </a:rPr>
              <a:t>Average Speed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17680" y="1417320"/>
            <a:ext cx="8005680" cy="48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peed is NOT CONSTANT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peed from moment to moment (at any given time) is called instantaneous speed, and is hard to calculate, so we calculate average speed over a certain distan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: a runner has different speeds on each lap he runs in a 1600m (4 lap) race: 83 s, 81 s, 79 s, 77 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lculate the total time (320 s) for the entire distance of 1600 m. The average speed would be 1600m/320s = 5.0 m/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612520" y="132840"/>
            <a:ext cx="2968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Calibri"/>
              </a:rPr>
              <a:t>Velocity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6840" y="1417680"/>
            <a:ext cx="833292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direction of motion can be as important as spe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elocity = speed in a SPECIFIC DIRE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x: Walking EAST at a speed of 3m/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 person walking NORTH at a speed of 3m/s would have the same speed but a different velocit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determine velocity you need to know speed and direction. A change in either SPEED OR DIRECTION (or both) changes the velocity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40920" y="132840"/>
            <a:ext cx="6970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Calibri"/>
              </a:rPr>
              <a:t>Distance-Time Graph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275840"/>
            <a:ext cx="35272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ing a graph that plots the distance against time is the best way to show motion of an object. This is called a distance-time graph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IME is ALWAYS on the horizontal axis (x-axis) and DISTANCE is ALWAYS on the vertical axis (y-axi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3373560" y="1612800"/>
            <a:ext cx="57704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14360" y="120240"/>
            <a:ext cx="8307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lculating Speed from a Grap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3000" y="1542960"/>
            <a:ext cx="744516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s an object moves, the distance it travels INCREASES with time. This can be seen as a climbing or rising line on the graph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 FLAT (or horizontal) line shows an interval of time where the speed is 0 m/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TEEPER lines show intervals where speed is greater than intervals with less steep lin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lope is equal to SPEE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925560" y="941400"/>
            <a:ext cx="714852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8120" y="1104840"/>
            <a:ext cx="28512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Calibri"/>
              </a:rPr>
              <a:t>Distance-Time Graph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3260880" y="149400"/>
            <a:ext cx="5391000" cy="64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How do you describe the location of an object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4960" y="1958760"/>
            <a:ext cx="815184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oose an object in the classroo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WITHOU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pointing to, describing, or naming the object, give directions to your lab partner for finding i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k your lab partner to identify the object using your directions. If your lab partner can’t locate it, keep trying giving different direct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kind of information did you have to give your lab partner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612880" y="39240"/>
            <a:ext cx="3383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Calibri"/>
              </a:rPr>
              <a:t>Position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417680"/>
            <a:ext cx="82296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SITION = LOCATION (can be a place or objec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you describe position, you COMPARE the location with another object or pla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location that you compare your object or place’s position to is called the REFERENCE POI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: New York City is about 695 km SW of Sanford, N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can also describe position by using coordinates of LONGITUDE and LATITUD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: you can plot New York and Sanford on a map using longitude and latitude coordinat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01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Motion and Relative Motion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6840" y="1244520"/>
            <a:ext cx="84358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OTION = CHANGE of position over tim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an be vertical or horizontal, or both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ow quickly or slowly the position changes depends on the object’s SPEE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ow motion is observed depends upon the observer’s point of view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LATIVE MOTION = the motion of an object relative to an observ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: A bus driver would say the stop sign he is approaching is changing position; a person standing on the sidewalk waiting for the bus would say the bus is changing posi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Calibri"/>
              </a:rPr>
              <a:t>Let’s Review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2009880"/>
            <a:ext cx="847080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information do you need to describe an object’s locatio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scribe how your position changes as you jump over an objec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ive an example of how the apparent motion of an object depends on the observer’s mo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65600" y="117000"/>
            <a:ext cx="3178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Calibri"/>
              </a:rPr>
              <a:t>SPEED! 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17240" y="1260000"/>
            <a:ext cx="842148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osition can change at different rat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You can describe change in position in two ways: in terms of DISTANCE or TIM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t’s say someone asks you how far it is from Sanford to Raleigh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f you describe in terms of distance, you would say about 40 mi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n you describe with time, you have to take TWO things into account: the distance it takes to get there, and the person’s spe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PEED = the DISTANCE something moves in a given amount of TIM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greater the speed an object has, the faster it changes posi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87600" y="132840"/>
            <a:ext cx="5659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Calibri"/>
              </a:rPr>
              <a:t>Calculating Speed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06440" y="1275840"/>
            <a:ext cx="8315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calculate speed, you need to know both distance and time measure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wo bikes start at the same point at the same tim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fter 1 second, the first bike has traveled 4 meters, and the second bike has traveled only 2 meter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ecause the first bike traveled 4 meters in 1 sec, it has a speed of 4 m/sec. The second bike has a speed of 2m/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each bike continues moving at the same speed as before, then after two seconds the first bike would have traveled 8 meters. The second bike would have traveled 4 mete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far will each bike have traveled in 5 seconds? What formula did you use to figure that out?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33400" y="132840"/>
            <a:ext cx="6212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Calibri"/>
              </a:rPr>
              <a:t>Calculating Speed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14000" y="1417680"/>
            <a:ext cx="849636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peed =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distanc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OR    S =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im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formula shows how distance, time, and speed are relat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member, if two objects travel the same distance, the object that took a shorter amount of time will have the greater spe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 that means an object with a greater speed will travel a LONGER distance in the same amount of time than an object with a lower speed wil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51040" y="132840"/>
            <a:ext cx="5805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Calibri"/>
              </a:rPr>
              <a:t>Calculating Speed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30360" y="1417680"/>
            <a:ext cx="796104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The standard unit for speed is meters per second (m/s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can also be given in kilometers per hour (km/h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n the US, we say miles per hour (mph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13:03:32Z</dcterms:created>
  <dc:creator>Stephanie Coggins</dc:creator>
  <dc:description/>
  <dc:language>en-US</dc:language>
  <cp:lastModifiedBy>CO-03017689</cp:lastModifiedBy>
  <dcterms:modified xsi:type="dcterms:W3CDTF">2017-03-13T15:10:07Z</dcterms:modified>
  <cp:revision>37</cp:revision>
  <dc:subject/>
  <dc:title>Motion, Speed, Acceleration, and Velocity</dc:title>
</cp:coreProperties>
</file>